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6AF3-6EFF-41B6-AAAB-E2554D2FF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436D-CA09-4BCC-80E0-A895070EC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3436-7AC4-4EBC-A97A-2ED7B6B1C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504E-3DE4-44FE-B508-0A46B05D4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36FF-7848-4315-9EEE-C6728825C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15F7-7E74-413E-916C-33533B901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22CC-6620-48BC-B6B2-133A1B5AB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2B58-A388-4AEB-8B08-7FA417593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1922-9666-4B7C-A31A-5504D2858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A569-B937-4AE4-A7E9-5CB455FD5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591-32E1-4128-AB51-24AE8D4E4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38B1-4319-4004-A8D8-B79300743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45C1-9486-41DD-B8E0-F733B4458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28E-9AD2-4F48-9EA9-F074852F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E90-7D9C-4AEB-920F-755EE5A7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6BB-BAB7-42A3-8BE3-9E778CAF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134-28FF-4F3B-A067-9769A800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834F-62E6-4D32-81AD-722EA1D5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93D9-F0C1-445B-8718-A340B1D4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73D5-B8DF-4FC4-8D7C-8AD396E7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BEB3-73DB-4554-A06A-95A68EB0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2C0C-49A1-4602-A6A2-2D8F8D80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754D-3B5D-4560-A10B-0CF19229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F8B8-B93D-49F1-ABDD-D69B146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685-C135-473E-8C8D-7A656012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45BA-559A-4EAC-B10F-F26A7EDA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7110-2DFF-453A-9C2D-0CE6634A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9A7A-9D09-49E5-8E20-7609EE61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FA8D-FCF6-4E23-8332-44F63393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4655-2010-465B-8778-DD4770D0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68A2-6FD5-44DA-B5FC-6137429B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F955-4D4B-473A-8B66-D49D1AF1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B7DA-D59C-4B0F-A383-8A0AE58D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5021-0C33-412B-BE3E-3DBA26CD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A365-3673-4F8C-A22D-03E65465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46E-86D9-49F1-B551-5F08B8A2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C9401-0E38-4537-A778-FE9E4744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5B68-54F0-4CB4-B942-BBACDF7C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B981-D997-4A7C-98E7-E8938064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593E-D8B1-4608-A164-F0687267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C008-6014-488E-A881-F72ABF73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BEA9A-3554-4151-B6DE-0EFD2EC7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526A-E2C8-417A-B8A1-760177BE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BE334-7442-4A16-97F7-805109EA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AC0505-7646-447F-85D4-FAFFE51F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5159E-6145-43E4-929F-DF29B315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BC5-4988-42F8-980E-27730509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3D59B-0F1D-40F0-910E-42A43ABC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C2745-7AB6-4191-87E9-F6CC26B3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E1EBD2-1B5F-49F3-81C0-926EBD7C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3ABF3-64F5-4FCD-BA76-A23D0B04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C38FA-7082-41F3-AC6D-E9081351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952E5-7404-44D7-BD7D-043AD386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46B94-ABD0-4EE6-A7FE-89C204B5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5CBE8-4F0E-4718-846C-71D11005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8CC24-E510-43CB-AC6F-3A58053E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E1306-A819-4736-BD9F-3A0090E5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0E6-6A0C-401E-8837-E1046F88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68FCD-DE13-46AD-987C-8022B48D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1442D-4B67-46BC-80E1-C21F4B1C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D58CF-7A02-48EF-8D5F-24A6DBA4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A6148-992E-464E-8320-76BA2359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9BD7A-EC82-4A57-A415-434252F7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C54EA-1215-46B0-A379-FBFB57E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225A9-D75B-4031-A310-BCC25AD2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6845C-CB37-4DE7-A865-90E7ACF8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32E6C-6603-4C60-A022-D5EC9E1D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3DA2E-8305-48EF-87BC-578B8430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9A0-8901-4B77-ADBE-52D8A616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3CDC8-8BB3-4533-B894-2865F5C7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7A76D-0B1F-4857-9303-EEF009BF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17342-FD5E-4D3B-9FF7-E729B62C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21EB97-ADE5-4DA5-A743-692899A3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8ABD5-8797-4DD8-83AD-F3B86734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E5D50-A78B-499F-B774-88C6730B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608BF-9694-48DF-8B6B-D4D64A0F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E232E-A561-441F-A326-C22A2100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64826-C424-4936-9EE2-278F81C2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9F47E-FA30-4ED5-AA29-789CD465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966-8FE8-4DAA-B500-F5333EE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EDF4A-440D-443B-A021-71569B01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7109C-1DA4-4FA2-ACAE-7BC2CD25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52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032CC-8C07-4F75-90A1-8020D7E3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2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FB9-1BFF-4A75-87F8-5B895D68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2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308-4F3C-4ABC-8466-1CC7C24C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76"/>
                </a:srgbClr>
              </a:gs>
              <a:gs pos="100000">
                <a:srgbClr val="444d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36588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73D4-5989-4B7E-B9EA-4054F8628E5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36588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3484-EB6A-4ECF-BF55-AE1268A56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76"/>
                </a:srgbClr>
              </a:gs>
              <a:gs pos="100000">
                <a:srgbClr val="444d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CD3-2090-40FE-8190-7AA2D3FC912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80AE-0B46-4590-A1B6-DB91975AB7F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76"/>
                </a:srgbClr>
              </a:gs>
              <a:gs pos="100000">
                <a:srgbClr val="444d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955920" y="6362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C7A6-D795-4422-940B-72E96BCC412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619360" y="6367320"/>
            <a:ext cx="42609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3523-08E2-4DF2-8464-FBE011E21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791240" y="636588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0638-7D62-4863-88F9-9BD2705D8BA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7589880" y="636588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709F-9846-4EEE-BA91-46B78F809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45684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791240" y="636588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91F8-11BC-41EF-978D-1D4A2522000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4"/>
          </p:nvPr>
        </p:nvSpPr>
        <p:spPr>
          <a:xfrm>
            <a:off x="7589880" y="636588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7D8F-22C3-44C2-A2C5-BF68A126E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5"/>
          </p:nvPr>
        </p:nvSpPr>
        <p:spPr>
          <a:xfrm>
            <a:off x="45684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791240" y="636588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41CD-8F6C-4F2E-BACA-09166D7C03F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7"/>
          </p:nvPr>
        </p:nvSpPr>
        <p:spPr>
          <a:xfrm>
            <a:off x="7589880" y="636588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079E-B81F-4BD7-9242-E1B767B6C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8"/>
          </p:nvPr>
        </p:nvSpPr>
        <p:spPr>
          <a:xfrm>
            <a:off x="45684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etterendings.org/homeschool/Words/Root%20Words.htm" TargetMode="External"/><Relationship Id="rId2" Type="http://schemas.openxmlformats.org/officeDocument/2006/relationships/hyperlink" Target="http://www.betterendings.org/homeschool/Words/Root%20Word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ng.com/images/search?q=hierarchy+chart&amp;FORM=IGRE&amp;qpvt=hierarchy+char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Century Gothic"/>
              </a:rPr>
              <a:t>Linguistics </a:t>
            </a:r>
            <a:br>
              <a:rPr sz="4400"/>
            </a:br>
            <a:r>
              <a:rPr b="0" lang="en-US" sz="4400" spc="-1" strike="noStrike">
                <a:solidFill>
                  <a:srgbClr val="444d26"/>
                </a:solidFill>
                <a:latin typeface="Century Gothic"/>
              </a:rPr>
              <a:t>Praxis Terms &amp; Topics</a:t>
            </a:r>
            <a:endParaRPr b="0" lang="en-US" sz="44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b160"/>
                </a:solidFill>
                <a:latin typeface="Century Gothic"/>
              </a:rPr>
              <a:t>Dr. Melissa Com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b160"/>
                </a:solidFill>
                <a:latin typeface="Century Gothic"/>
              </a:rPr>
              <a:t>Associate Profess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b160"/>
                </a:solidFill>
                <a:latin typeface="Century Gothic"/>
              </a:rPr>
              <a:t>Tennessee Tech Universit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6" name="Picture 4" descr="TTU.jpg"/>
          <p:cNvPicPr/>
          <p:nvPr/>
        </p:nvPicPr>
        <p:blipFill>
          <a:blip r:embed="rId1"/>
          <a:stretch/>
        </p:blipFill>
        <p:spPr>
          <a:xfrm>
            <a:off x="5791320" y="4724280"/>
            <a:ext cx="1257120" cy="952560"/>
          </a:xfrm>
          <a:prstGeom prst="rect">
            <a:avLst/>
          </a:prstGeom>
          <a:ln cap="sq" w="444600">
            <a:solidFill>
              <a:srgbClr val="e7bc29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Notional-functiona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s arranged around the notion that people use language to communicate in a particular contex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unction is a specific purpose for a speaker in a given contex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  the ‘notion’ of shopping requires numerous language functions (price, warranty, product description, etc.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ESL Textbook Organizational Patterns</a:t>
            </a: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89" name="Footer Placeholder 9"/>
          <p:cNvSpPr/>
          <p:nvPr/>
        </p:nvSpPr>
        <p:spPr>
          <a:xfrm>
            <a:off x="45720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ontent Placeholder 3" descr=""/>
          <p:cNvPicPr/>
          <p:nvPr/>
        </p:nvPicPr>
        <p:blipFill>
          <a:blip r:embed="rId1"/>
          <a:stretch/>
        </p:blipFill>
        <p:spPr>
          <a:xfrm>
            <a:off x="749160" y="1427040"/>
            <a:ext cx="7632720" cy="46198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ESL Textbook Organizational Patterns</a:t>
            </a: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92" name="Footer Placeholder 10"/>
          <p:cNvSpPr/>
          <p:nvPr/>
        </p:nvSpPr>
        <p:spPr>
          <a:xfrm>
            <a:off x="45720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08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the difference between comparative adjectives and superlative adjectives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negative transfer? (think L1application to L2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the difference between blends and digraphs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a weak reference?  (think pronoun/antecedent relationship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the difference between a relative pronoun and a demonstrative pronoun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Think about it. . .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Content Placeholder 3" descr=""/>
          <p:cNvPicPr/>
          <p:nvPr/>
        </p:nvPicPr>
        <p:blipFill>
          <a:blip r:embed="rId1"/>
          <a:stretch/>
        </p:blipFill>
        <p:spPr>
          <a:xfrm>
            <a:off x="365040" y="1268280"/>
            <a:ext cx="8255160" cy="40467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Linguistics. . . Simplified 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5335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sounds in English are typically problematic for ELL speakers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n ESOL student says, “I have 2 pen.”  Which English morpheme has the student not yet acquired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are the 8 parts of speech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re are 4 basic tenses.  What are they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hat is the difference between active and passive voice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Name the 4 types of sentenc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Think About It. . . 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Content Placeholder 3" descr=""/>
          <p:cNvPicPr/>
          <p:nvPr/>
        </p:nvPicPr>
        <p:blipFill>
          <a:blip r:embed="rId1"/>
          <a:stretch/>
        </p:blipFill>
        <p:spPr>
          <a:xfrm>
            <a:off x="365040" y="1011240"/>
            <a:ext cx="8467920" cy="51404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Figurative Language Examples</a:t>
            </a: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380880" y="1066680"/>
          <a:ext cx="8382240" cy="3746520"/>
        </p:xfrm>
        <a:graphic>
          <a:graphicData uri="http://schemas.openxmlformats.org/drawingml/2006/table">
            <a:tbl>
              <a:tblPr/>
              <a:tblGrid>
                <a:gridCol w="863640"/>
                <a:gridCol w="1470240"/>
                <a:gridCol w="1554120"/>
                <a:gridCol w="1211040"/>
                <a:gridCol w="1559160"/>
                <a:gridCol w="1724040"/>
              </a:tblGrid>
              <a:tr h="454320"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e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a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uf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7e0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a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7e0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amp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7e0e"/>
                    </a:solidFill>
                  </a:tcPr>
                </a:tc>
              </a:tr>
              <a:tr h="56664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way fr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ect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ut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ppendect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45396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f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dic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he belief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alis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844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i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ain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i-w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he study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808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th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ge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mu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ne who takes part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700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th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ge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sp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ia, -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,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mnesia, democrac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8080"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pho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aggerated f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80280" rIns="8028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austropho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Prefix/Suffix</a:t>
            </a:r>
            <a:br>
              <a:rPr sz="3800"/>
            </a:b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457200" y="5410080"/>
            <a:ext cx="80773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e58b6"/>
                </a:solidFill>
                <a:uFillTx/>
                <a:latin typeface="Century Gothic"/>
                <a:hlinkClick r:id="rId1"/>
              </a:rPr>
              <a:t>An excellent resource for affixes can be found at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e58b6"/>
                </a:solidFill>
                <a:uFillTx/>
                <a:latin typeface="Century Gothic"/>
                <a:hlinkClick r:id="rId2"/>
              </a:rPr>
              <a:t>http://www.betterendings.org/homeschool/Words/Root%20Words.htm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haracteristics of a sheltered ESL clas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ass has ESL students onl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eachers use physical activities, visual aids, &amp; the environment to teach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haracteristics of dual-immersion (2-way immersion)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Program that brings together native minority speakers with native target speaker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oth groups of students, ideally, develop fluency in both language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What are. . . 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78" name="Footer Placeholder 9"/>
          <p:cNvSpPr/>
          <p:nvPr/>
        </p:nvSpPr>
        <p:spPr>
          <a:xfrm>
            <a:off x="45720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457200" y="1219320"/>
          <a:ext cx="8229600" cy="486072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strumental 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nting to learn a language for the sole purpose of obtaining something (jo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grative 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nting to learn a language in order to become part of a speech community (integr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municative compe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nguage user’s grammatical knowledge of syntax, morphology, etc. as well as social knowledge about using utterances appropria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xe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tudy of spatial distances between individuals in different cultures and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orld Englis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calized varieties of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thnocentr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lief that one’s ethnic group or culture is sup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person singular constr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als with verbs in the present tense; made singular by adding an -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Century Gothic"/>
              </a:rPr>
              <a:t>Terms to know. . . </a:t>
            </a:r>
            <a:endParaRPr b="0" lang="en-US" sz="4200" spc="-1" strike="noStrike">
              <a:solidFill>
                <a:srgbClr val="444d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67840"/>
            <a:ext cx="86104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ESL Textbook Organizational Patterns</a:t>
            </a: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Hierarchy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also known as </a:t>
            </a:r>
            <a:r>
              <a:rPr b="0" i="1" lang="en-US" sz="2600" spc="-1" strike="noStrike">
                <a:solidFill>
                  <a:srgbClr val="000000"/>
                </a:solidFill>
                <a:latin typeface="Century Gothic"/>
              </a:rPr>
              <a:t>structure: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shows the relationship of various units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600" spc="-1" strike="noStrike" u="sng">
                <a:solidFill>
                  <a:srgbClr val="8e58b6"/>
                </a:solidFill>
                <a:uFillTx/>
                <a:latin typeface="Century Gothic"/>
                <a:hlinkClick r:id="rId1"/>
              </a:rPr>
              <a:t>Hierarchy Example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3" name="Content Placeholder 3" descr=""/>
          <p:cNvPicPr/>
          <p:nvPr/>
        </p:nvPicPr>
        <p:blipFill>
          <a:blip r:embed="rId2"/>
          <a:stretch/>
        </p:blipFill>
        <p:spPr>
          <a:xfrm>
            <a:off x="755640" y="3541680"/>
            <a:ext cx="763272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10"/>
          <p:cNvSpPr/>
          <p:nvPr/>
        </p:nvSpPr>
        <p:spPr>
          <a:xfrm>
            <a:off x="457200" y="6367320"/>
            <a:ext cx="42591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Your logo here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d26"/>
                </a:solidFill>
                <a:latin typeface="Century Gothic"/>
              </a:rPr>
              <a:t>ESL Textbook Organizational Patterns</a:t>
            </a:r>
            <a:endParaRPr b="0" lang="en-US" sz="38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Grammatica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Arranged according to a set of structural rule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nten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rpholog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ovides an approach for constructing gramma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22:48Z</dcterms:created>
  <dc:creator/>
  <dc:description/>
  <dc:language>en-US</dc:language>
  <cp:lastModifiedBy/>
  <dcterms:modified xsi:type="dcterms:W3CDTF">2010-04-12T17:44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202131033</vt:lpwstr>
  </property>
</Properties>
</file>